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681D-E1E8-4F86-AC3C-6D50FF4D3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43D5-B05C-46FC-B80A-119409567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7C79-002E-4E77-A2F5-DE10343E6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7749-CA74-4AB2-BD23-C63980E4F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A1C1-C3A4-42EC-AA6F-7EB335C23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7791-D7DE-40B0-B31F-1ADE5CB8E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08A0-270B-4E3D-9226-F13639166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843C-0BAD-4B47-A69E-F33686230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AFC6-9948-4F7B-B8B6-6A2EC64E8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F09F-73B1-4835-8F60-EFDDF723F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1841-DF94-41CD-AFC3-CBC6912CF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157A-C6C8-4EDC-AC5E-5CDC8195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BF43E-20BC-4EE8-BA9A-C16D1B362A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505320" y="2666520"/>
            <a:ext cx="44193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raCosta Colle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risti Re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6"/>
          <p:cNvSpPr txBox="1"/>
          <p:nvPr/>
        </p:nvSpPr>
        <p:spPr>
          <a:xfrm rot="5400000">
            <a:off x="-1085760" y="3066840"/>
            <a:ext cx="5867280" cy="648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reposi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, On, At … Three Little Words…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ree Big Headaches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, on, at + 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preploc1"/>
          <p:cNvPicPr/>
          <p:nvPr/>
        </p:nvPicPr>
        <p:blipFill>
          <a:blip r:embed="rId1"/>
          <a:stretch/>
        </p:blipFill>
        <p:spPr>
          <a:xfrm>
            <a:off x="7315200" y="4952880"/>
            <a:ext cx="32400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preploc2"/>
          <p:cNvPicPr/>
          <p:nvPr/>
        </p:nvPicPr>
        <p:blipFill>
          <a:blip r:embed="rId2"/>
          <a:stretch/>
        </p:blipFill>
        <p:spPr>
          <a:xfrm>
            <a:off x="3657600" y="4876920"/>
            <a:ext cx="1762200" cy="1114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preploc3"/>
          <p:cNvPicPr/>
          <p:nvPr/>
        </p:nvPicPr>
        <p:blipFill>
          <a:blip r:embed="rId3"/>
          <a:stretch/>
        </p:blipFill>
        <p:spPr>
          <a:xfrm>
            <a:off x="685800" y="5334120"/>
            <a:ext cx="1971720" cy="6379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7"/>
          <p:cNvSpPr/>
          <p:nvPr/>
        </p:nvSpPr>
        <p:spPr>
          <a:xfrm>
            <a:off x="685800" y="4419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(ins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3124080" y="3962520"/>
            <a:ext cx="28195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on the surface, touch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6477120" y="3809880"/>
            <a:ext cx="2133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physically present, but not necessarily insi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0" descr="MCj03325780000[1]"/>
          <p:cNvPicPr/>
          <p:nvPr/>
        </p:nvPicPr>
        <p:blipFill>
          <a:blip r:embed="rId4"/>
          <a:stretch/>
        </p:blipFill>
        <p:spPr>
          <a:xfrm>
            <a:off x="5943600" y="1066680"/>
            <a:ext cx="603360" cy="685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MCj03590690000[1]"/>
          <p:cNvPicPr/>
          <p:nvPr/>
        </p:nvPicPr>
        <p:blipFill>
          <a:blip r:embed="rId5"/>
          <a:stretch/>
        </p:blipFill>
        <p:spPr>
          <a:xfrm>
            <a:off x="6781680" y="1066680"/>
            <a:ext cx="685800" cy="608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MCBD20150_0000[1]"/>
          <p:cNvPicPr/>
          <p:nvPr/>
        </p:nvPicPr>
        <p:blipFill>
          <a:blip r:embed="rId6"/>
          <a:stretch/>
        </p:blipFill>
        <p:spPr>
          <a:xfrm>
            <a:off x="7620120" y="1066680"/>
            <a:ext cx="839520" cy="6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orrect? In, on, or 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____ room 1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____ the first flo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____ MiraCosta Colle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____ Mission Aven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____ 1831 Mission Aven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____ Ocean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____ Califor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____ the United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____ North Ame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____ planet Ear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____ the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____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____ chu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____ sch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____ h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eral r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 In, On, At + lo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533520" y="2971800"/>
            <a:ext cx="2590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609480" y="2430360"/>
            <a:ext cx="251460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 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conti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3886200" y="2895480"/>
            <a:ext cx="2209680" cy="29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n 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o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6705720" y="2438280"/>
            <a:ext cx="2209680" cy="41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t 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ild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miliar plac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home, school, wor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4" descr="preploc6"/>
          <p:cNvPicPr/>
          <p:nvPr/>
        </p:nvPicPr>
        <p:blipFill>
          <a:blip r:embed="rId1"/>
          <a:stretch/>
        </p:blipFill>
        <p:spPr>
          <a:xfrm>
            <a:off x="380880" y="1371600"/>
            <a:ext cx="2238480" cy="1143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7" descr="preploc7"/>
          <p:cNvPicPr/>
          <p:nvPr/>
        </p:nvPicPr>
        <p:blipFill>
          <a:blip r:embed="rId2"/>
          <a:stretch/>
        </p:blipFill>
        <p:spPr>
          <a:xfrm>
            <a:off x="3505320" y="1752480"/>
            <a:ext cx="1733400" cy="1105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9" descr="preploc9"/>
          <p:cNvPicPr/>
          <p:nvPr/>
        </p:nvPicPr>
        <p:blipFill>
          <a:blip r:embed="rId3"/>
          <a:stretch/>
        </p:blipFill>
        <p:spPr>
          <a:xfrm>
            <a:off x="7086600" y="1295280"/>
            <a:ext cx="1428840" cy="12002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1" descr="preploc25"/>
          <p:cNvPicPr/>
          <p:nvPr/>
        </p:nvPicPr>
        <p:blipFill>
          <a:blip r:embed="rId4"/>
          <a:stretch/>
        </p:blipFill>
        <p:spPr>
          <a:xfrm>
            <a:off x="3657600" y="5334120"/>
            <a:ext cx="1752480" cy="1233360"/>
          </a:xfrm>
          <a:prstGeom prst="rect">
            <a:avLst/>
          </a:prstGeom>
          <a:ln w="0">
            <a:noFill/>
          </a:ln>
        </p:spPr>
      </p:pic>
      <p:sp>
        <p:nvSpPr>
          <p:cNvPr id="65" name="Line 22"/>
          <p:cNvSpPr/>
          <p:nvPr/>
        </p:nvSpPr>
        <p:spPr>
          <a:xfrm>
            <a:off x="2971800" y="1600200"/>
            <a:ext cx="0" cy="472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3"/>
          <p:cNvSpPr/>
          <p:nvPr/>
        </p:nvSpPr>
        <p:spPr>
          <a:xfrm>
            <a:off x="6019920" y="1600200"/>
            <a:ext cx="0" cy="472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ed more practi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for Practicing Prepo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about In, On, 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e In, On, At for different sit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, On, At + Lo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2T17:42:12Z</dcterms:created>
  <dc:creator>Kristi Reyes</dc:creator>
  <dc:description/>
  <dc:language>en-US</dc:language>
  <cp:lastModifiedBy>Kristi Reyes</cp:lastModifiedBy>
  <dcterms:modified xsi:type="dcterms:W3CDTF">2008-08-15T17:07:51Z</dcterms:modified>
  <cp:revision>5</cp:revision>
  <dc:subject/>
  <dc:title>Prepositions</dc:title>
</cp:coreProperties>
</file>